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4.gif" ContentType="image/gif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5.png" ContentType="image/png"/>
  <Override PartName="/ppt/media/drumroll.wav" ContentType="audio/x-wav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FDA0-C37D-4937-BF03-349F44D96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0C9-C0D3-4C3F-8D61-5DF9C1515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A81-6789-49F6-B9A1-5BDBBADB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209-59A3-4350-B3E5-4A909551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B2C-EA35-4E70-A54F-781B85AA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233-16D3-4473-8518-A35AFD7E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C9B2-D417-4C70-AA08-47C1F1DC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0C1F-5C6C-4AD1-BCD7-F94EF437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213-02F8-4C63-A409-27EAE5C2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9AE5-DA2A-429F-81A7-45923627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9EAB-3C80-4242-AA7B-8FAD7D60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B99B-A8DE-45AC-B4F4-FB24BAAF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7B29-93AF-4237-8991-427BEBDD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FD7-63B5-4541-885A-D63638D9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A847-C432-4DEF-A1AD-BFD3CCC2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48A2-4D7C-40ED-B10C-3C92C8CB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741C-5BE1-444E-8858-397D1450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458B-2B2A-4619-93C2-EEA34DB2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283D-9F8C-4982-B30F-265D5F1F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72A4-DD1A-4B9C-8919-19E74DC1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D943-405C-4CDC-9BED-E1232798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034D-8BC1-4B00-AB55-A73B5392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50D4-BDFD-4CAA-9EA3-1C6A5F8F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34C0-33EA-4DCB-82F4-97E51999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6F9-6C9F-4A40-8D7F-4FB18053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8415-8E1C-4751-BB2F-71492D2B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5448-42BA-4C22-99A5-34492B1A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0009-AA7F-4F6C-9875-6E805150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516A-2D15-4AC2-B591-2736015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87E1-7F0D-4AA5-A7C1-92698FA6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BE56-DE5B-43F1-96CA-F8567C06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200B-0D19-434C-9621-6057E607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5342-770F-4159-AF2B-307EEF94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9048F-4D6F-4AFD-B119-38933B0C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5BE1-BB98-4646-B5B1-BDB72E1F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4DF-6BFD-48AE-A5AB-2D3535A3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09071-1099-4FDB-B24A-D94C60D6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16463-9951-40A9-B096-2A9BFF32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81DD-268B-4671-9DA4-067FA069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9E12-4E2D-4120-A526-1CA09393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604E1-693A-4BE7-924E-709284F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32550-7A3C-4427-B5EA-7DECCE6B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75215-ACFB-4167-B893-3A5552A0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8CB46-82E2-4F6B-A686-B56A65A2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8EAC-16D8-4A27-830B-FC05AE9A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5CF-4B85-4704-A2F1-8D1562B9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ACF-C699-4C61-9671-5A6B0B27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B1A-B959-46B7-915B-1F6EF7DC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6AC-3F45-4274-8022-972CE34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CEA-AE3E-4A83-80D1-F4ACBDE8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7588-86FB-4B46-96FE-EF099ECBFF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877D-B3C4-4733-B488-F982BACBC3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3BE9-9694-4A75-98B2-F29CC89AD83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4362-E294-46A9-81F4-6CB05EDE739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’</a:t>
            </a: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5000">
    <p:wheel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P4240116"/>
          <p:cNvPicPr/>
          <p:nvPr/>
        </p:nvPicPr>
        <p:blipFill>
          <a:blip r:embed="rId1"/>
          <a:stretch/>
        </p:blipFill>
        <p:spPr>
          <a:xfrm>
            <a:off x="3962520" y="441972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1607potatoes"/>
          <p:cNvPicPr/>
          <p:nvPr/>
        </p:nvPicPr>
        <p:blipFill>
          <a:blip r:embed="rId3"/>
          <a:stretch/>
        </p:blipFill>
        <p:spPr>
          <a:xfrm>
            <a:off x="2590920" y="1981080"/>
            <a:ext cx="3047760" cy="20671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Foods produced in Russ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514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ar bee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rl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a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stockphotopro_36014208UKD_no_title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40543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anufacturing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manufacturing centers 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in St. Petersburg make light machinery, textiles, and 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04960" y="1904760"/>
            <a:ext cx="51116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208400" y="2209680"/>
            <a:ext cx="3411720" cy="26672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production growth  rate 13.1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ls are used to make advanced air crafts, ships , missi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nsive technology include radars, and advanced electronics components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al and scientific industry include textiles, handicrafts, foodstuff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ad and rail transportation include communication equipment, tractors and construction equip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Users\cool\AppData\Local\Microsoft\Windows\Temporary Internet Files\Content.IE5\2IUTAM3Y\MP900390146[1].jpg"/>
          <p:cNvPicPr/>
          <p:nvPr/>
        </p:nvPicPr>
        <p:blipFill>
          <a:blip r:embed="rId1"/>
          <a:stretch/>
        </p:blipFill>
        <p:spPr>
          <a:xfrm>
            <a:off x="5334120" y="1828800"/>
            <a:ext cx="2895480" cy="36576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he  Volga and Urals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82844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lg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ries almost one-half of Russia’s river traff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 provides water for irrigation and for hydroelectric pow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home of Russia’s most productive farmlan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ers mine bauxite for aluminum, copper, gold, lead and 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energy resources such as coal, oil, and 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cow  is Russia’s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's port c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ssia has 5 important ports c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ningrad, and St. Petersburg. Murmansk, Vladivostok, and Astrakh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ningrad has eliminated all taxes on shipping goo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. Petersburg makes light machinery, textiles, scientific, and medical equip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the other port cities trade bring goods to Russ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2" descr="news-StPetersburgAnnounced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:\Users\cool\AppData\Local\Microsoft\Windows\Temporary Internet Files\Content.IE5\T29BWV2O\MM900283225[1].gif"/>
          <p:cNvPicPr/>
          <p:nvPr/>
        </p:nvPicPr>
        <p:blipFill>
          <a:blip r:embed="rId2"/>
          <a:stretch/>
        </p:blipFill>
        <p:spPr>
          <a:xfrm>
            <a:off x="2971800" y="548640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603360" y="1725480"/>
            <a:ext cx="7864200" cy="2700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0000">
    <p:wheel/>
    <p:sndAc>
      <p:stSnd>
        <p:snd r:embed="rId2" name="applause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cool</cp:lastModifiedBy>
  <dcterms:modified xsi:type="dcterms:W3CDTF">2010-12-21T01:00:19Z</dcterms:modified>
  <cp:revision>40</cp:revision>
  <dc:subject/>
  <dc:title>Economy</dc:title>
</cp:coreProperties>
</file>